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m 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k Mo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, Cincinn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SP in ‘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CP in ‘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years in utility industry, 12 as security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ible for mainframe, client server,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cies and procedures, disaster/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ed E&amp;Y in December, ‘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inf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chard Mosher/SOhioKentuckyIndiana/AUDIT/EYLLP/US@EY-N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YComm: 51766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fice: 513-723-4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bile: 606-466-45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chard.Mosher@e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/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upon security general security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ic categories are arbit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ion will touch on the same areas multiple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pic: Application system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/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upon security general security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privi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def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ic categories are arbit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ion will touch on the same areas multiple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pic: Application system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53C-B13D-479B-9FE4-D602D65C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4977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323-56BB-4A42-A52A-BDFBED15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977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4977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89E-30C5-4D06-B495-F87B7507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4977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4977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4977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54F-A4AA-425C-8E33-E85850BD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7E9-0BDD-4CF9-AABA-E21C83AC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B46-D3D5-4302-9482-57409B46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C50-4A77-4E22-9F06-2CF71D65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0AF-AAC3-4328-A722-C023BF11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A5E-233E-4CCF-A94A-AE7B1D1D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4977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D3E-62C4-4377-A36D-22954C81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4977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93C-9FC5-4E04-A212-CDCBA4E1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4977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F28-728D-41DF-8178-F210A7E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BK REVIEW -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93DE-5E85-4853-B64A-5D97F995C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ISSP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Note:  these are slides that were part of a CISSP prep course that I partly developed and taught while I was with Ernst and Young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While these slides are date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August 1999 -  the core information is still relevant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ntact me w/ any questions or comment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en Rothke, CISSP  brothke@hotmail.com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7A0-2595-474F-87A5-C61C3B52B7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untability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nel reviews - Background ch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C7A-71E2-4E13-9529-3310FA1F40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untability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word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p door - system or application password included for ease of vendor mainten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C1A-CD26-4C71-AB51-24E0458173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untability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ging of all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cted/duplicated lo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CD2-EB25-49CF-9BEB-FA60ECC695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untability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 reporting and change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orts, tracks, resolves problems affecting ser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e failu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ent recurre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e impa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s - Performance/avail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/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ures/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fety/secur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A28-8330-414F-A276-BC8921FFC2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untability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 reporting and change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olation analy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petitive mistak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eding author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restricted ac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terns - hackers, disgruntled employe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pping level - baseline violation count to establish normal violation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337-4245-4306-8B66-ADF642868D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blem reporting and change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t Privile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nular access control over system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 access permi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/Software elements &amp; procedures to enable authorized access and prevent unauthorized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6BA-1674-4D93-8CCB-021BA8F68F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blem reporting and change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t Privile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Granular access control over system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Individual access permi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iodic review of access needed/gra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ED9-3704-43E0-B9C9-A3B3B992FB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blem reporting and change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Granular access control over system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Individual access permi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iodic review of access needed/gra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Du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changes require appro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5AE-9390-4D6A-9640-BE1EC7B85D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blem reporting and change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Granular access control over system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Individual access permi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iodic review of access needed/gra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Du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ll changes require appr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al staff should not code or approve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pplicatio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Job contr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546-FD0C-41A6-AE1C-BCB2B9BC9C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blem reporting and change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Granular access control over system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Individual access permi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iodic review of access needed/gra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Du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ll changes require appr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al staff should not code or approve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al staff should not perform security du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rity administ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 administ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administ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3E1-81D9-4EA8-A8AD-6B047D4A4E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bout 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ichard Moshe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er in Cincinnati (Ohio Valle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SP in November of 199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BCP in June of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years in utility industry, 12 as security offic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onsible for mainframe, client server, internet, policies/procedures, disaster/recove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ined E&amp;Y in December of 19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act inf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chard Mosher/SOhioKentuckyIndiana/AUDIT/EYLLP/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YComm: 517667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ice: 513-723-4379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bile: 606-466-457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chard.Mosher@ey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832-5E73-4B17-A350-B4A5CA149F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blem reporting and change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Granular access control over system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Individual access permi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iodic review of access needed/gra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Du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ll changes require appr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al staff should not code or approve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al staff should not perform security du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s staff should not do data en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action logging with date/time/pers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cou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B69-87E8-4D3A-AE90-A24078CE64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blem reporting and change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Granular access control over system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Individual access permi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iodic review of access needed/gra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Du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ll changes require appr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al staff should not code or approve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al staff should not perform security du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s staff should not do data e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ilities in Operations should be divi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 de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b ro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811-6BA8-4CB5-A9DA-27DCCE2B00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paration of Duties - Operat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ing system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up/Shut 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up/reco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unting disks/ta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ing hard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ing/removing users (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AD7-C382-426F-9CC8-9B6E0C789A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paration of Duties - Secur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ing/removing users (?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ting cleara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ting pass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ting other security character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ing pro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ting file sensitivity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ting security characteristics of devices, communications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ing audit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1CA-9688-4340-8FF6-8DE4B940A8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blem reporting and change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Granular access control over system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Individual access permi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iodic review of access needed/gra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ll changes require appr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al staff should not code or approve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al staff should not perform security du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s staff should not do data e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Responsibilities in Operations should be divi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ed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rgency procedures requiring appro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C38-746D-4C52-8832-047E4323EA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blem reporting and change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Granular access control over system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Individual access permi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iodic review of access needed/gra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ll changes require appr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al staff should not code or approve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al staff should not perform security du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s staff should not do data e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Responsibilities in Operations should be divi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Emergency procedures requiring appr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vs Read/Write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B20-93C1-4C74-B969-2BEB39AC2D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sonnel reviews - Background che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assword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Logging of all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blem reporting and change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Granular access control over system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Individual access permi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eriodic review of access needed/gra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ll changes require appr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al staff should not code or approve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al staff should not perform security du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ons staff should not do data e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Responsibilities in Operations should be divi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Emergency procedures requiring appr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ing - Equipment/system documentation,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36C-6E6C-49E1-87AB-EAC3BCE5C2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access to the computer room and devices t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programm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eaning/mainten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ndor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act/Temp staf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 content mod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rocode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shut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er surfing over Operator’s shou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access to printouts - rero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o print que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o prin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51E-6E3D-43B2-B8E5-89BC347BDB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&amp; Least Privile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zation for access to the fac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sed shop - physical access controls limiting access to authorized perso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s security - controls over resources - HW, media &amp; operators with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s termin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s/routers/modems/circuit roo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niffer - device that attaches to the network and captures network traff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med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2B6-3905-46AF-8028-31E6D026FC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&amp; Least Privile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uthorization for access to the fac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forced control of access to the fac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perimeter - boundary where security controls protect ass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high security - system and all peripherals are protected at level of highest security classification of any information housed by the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est - reception of electromagnetic emanations which can be analyzed to disclose sensitive or protected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EA4-F470-4980-99C1-907124ED1E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ic: Operations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ach - General security princi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AE3-2911-4482-94F1-3021A6741F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&amp; Least Privile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uthorization for access to the fac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Enforced control of access to the fac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oversight of operator cons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ervision of personnel - Realtime and Non-real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ale evalu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ng lo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nto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control procedu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ident repor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stem/audit lo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dits/security review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ob ro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4CE-C251-4241-880B-3C97E78D14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uthorization for access to the fac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Enforced control of access to the fac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hysical oversight of operator cons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Duties &amp; Layered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ion of printo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ing/Trailing banners with recipient name and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“No Output” when report is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8AC-5657-419D-83F8-20FE4FD521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uthorization for access to the fac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Enforced control of access to the fac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hysical oversight of operator cons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Duties &amp; Layered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tection of print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ve identification and logging of printo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 for receipt of sensitive printo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A06-4003-4CDA-8BA7-EE150B371E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uthorization for access to the fac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Enforced control of access to the fac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hysical oversight of operator cons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Duties &amp; Layered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tection of print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ositive identification and logging of print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ion of print que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9F2-6658-4736-A494-2337035F4F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uthorization for access to the fac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Enforced control of access to the fac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hysical oversight of operator cons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Duties &amp; Layered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tection of print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ositive identification and logging of print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rotection of print que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t of facility and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dit lo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ng system calls/ut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connectiv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E05-8F2F-4E15-9F46-9F1B10BF33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bility to recover from fail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lia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858-E845-4006-9E7D-46629A2398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backups of all software and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DB8-FED8-4C3E-9B97-4F6FBB9856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Regular backups of all software and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Asset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inven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t equipment - design reli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e dispo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eaning/Sanitiz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verwri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tructive dele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gauss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ironmental prot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6B9-2504-48E3-903F-CA25313428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Contamin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up of conductive particles, contamin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rcuit boards, microswitches, sens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ntaneous combu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tional Fire Protection - US computer room fire every 10 m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0% unknown causes (HW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equipment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ss storage dev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ss through disk drive filt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/write errors, disk crash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/contractor instal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 100K parts per million in cubic foot of 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enter particulates &lt;= 0.5 microns (19.69 microinch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8D6-1EE8-4656-AC21-389E5B1C7F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Contamin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minants - Max 20 m-in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ir - 3,000 m-i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st - 1,500 m-i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gerprint - 600 m-i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oke - 250 m-i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314 head flying height - 100 m-i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300 head flying height -   50 m-i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llics (vacuum cleaner brushes, printers, flo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bonaceous (autos, tobacco, toner, paper, bur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thetic (clothing, carp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ment/crystalline (subfloor, cleaning fluids, air purifie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5EB-6CF2-4C57-80D1-CFB310A5D2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neral Security 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du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t privile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ed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8C1-1EC5-406C-AED3-3B966B0ED0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De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glove samples examined with micro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, no concent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i dish samples examined with micro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, no concent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pirating pump collection examined with micro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, some concentration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culate counter and collection b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aminant typing, some concentration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con detector with filtering media and micro ex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te typing and concentration with multiple samp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72B-68B6-4ABF-9850-F8AF2019FDF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justific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ze with Vicon &amp; maintain error lo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arate equi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ity restri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ushless vacuums with micron ratings &lt;= 1 micron or wall mounted vacuum outs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ion-generating purifiers, conditioners, hea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le quality of flo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p-line filt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in maintenance staf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65E-CA28-485E-A68F-A09C2E2ACD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Regular backups of all software and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Hardware configuration and inven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Fault tolerant equi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Secure dispos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Asset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/Backup software inven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-s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ironmental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d &amp; authorized access to back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TS Computer Off-the-Shelf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enance accounts/pass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058-19E9-4C26-95F3-E9504EA2E97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Regular backups of all software and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Hardware configuration and inven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Fault tolerant equi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ng and backup software inven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ff-site storage of back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Environmental and access control of backup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sted recovery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 security not breached during system crash and reco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back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boot (Crash or power fail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ver file systems (Missing re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ore files and databases (Inconsistent databa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security files (System compromi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D2B-AA07-44F5-92C0-CBEA1A4DE8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usted System Op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usted computer base - HW/FW/SW protected by appropriate mechanisms at appropriate level of sensitivity/security to enforce security poli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usted facility management - supports separate operator and administrator roles (B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early identify security admi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 - Integ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l declaration or certification of a produ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0BA-521B-4B75-9AF1-17B6058C25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ification that performance &amp; security requirements have been m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redi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l acceptance of security adequacy, authorization for operation and acceptance of existing risk (Q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l testing of security safegua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al assu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ification that a system is operating according to its security requir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 &amp; Development review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l model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 architect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SO 9000 quality techniqu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gree of confidence that the implemented security measures work as inten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44C-BFD4-4B7A-B6E8-8E6A8B38B87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Regular backups of all software and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Hardware configuration and inven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Fault tolerant equi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erating and backup software inven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ff-site storage of back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Environmental and access control of backup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Trusted reboot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gency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d procedures to be taken before, during and after a threatening incid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ity of operations - maintenance of essential DP services after incid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overy procedure - actions to restore DP capability after incid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079-E06C-49F3-AD8D-B887AC4399A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mergency Proced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s channel for evacuation sig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s to secure tapes, programs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cuation routes/ward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ation routes for transporting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cal ass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ing police/fire ass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ing backup files off-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ating back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4C3-B483-40E8-B0EF-DD778FFE684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ing modifications to system HW/FW/ SW/Docu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 integrity and limiting non-approved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contr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onsib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act assess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 level mainten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B44-C05E-408B-BEF1-6CAA149DF8E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ed and consistent plan cov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physical/media contr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onic transfer of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s software/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methods/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features/limitations of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requirements/settings/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responsibilities/auth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roles/responsi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needs (sensitivity, functionali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t information and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k assessment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5B5-A987-424A-A3C5-32042396055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Operational 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ileged-entity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78E-9B70-40EF-88C2-DA8E011EF9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isk Assessment/Analy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e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ulner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Use princi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system that is easier to secure is more likely to be sec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651-014C-42AC-B4C1-47E0F91DD4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ulnerabilities 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per access to system 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per access to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per update of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per destruction of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per change to job sched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per access to printed mater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access to the computer ro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access to printo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o print que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bility to recover from fail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u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61B-527A-4C6F-90C3-FB78360CA85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 of 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nel reviews - Background ch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word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ging of all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 reporting and change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changes require appro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nular access control over syste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vidual access permis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iodic review of access needed/gra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al staff should not code or approve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al staff should not perform security du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s staff should not do data en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ilities in Operations should be divi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word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rgency procedures requiring appro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329-A399-458F-A19C-B24BB5BC9E9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 of Controls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vs Read/Write acces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zation for access to the fac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forced control of access to the fac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oversight of operator conso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ion of printo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ve identification and logging of printo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ion of print que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backups of all software and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f-site storage of back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ironmental control of backup storag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ed &amp; authorized access to back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4F3-96FD-456C-A061-0638EBA28F7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Real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s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ations understaffed, wear too many h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ion of duties seldom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ingle password is used by all oper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commands are unrestricted on the cons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 granted to all operations staf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are not logg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ogs are not review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rgency procedures and approvals poorly def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s personnel may support system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rform security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7EB-D92B-4F2A-BACC-6B39C652006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Real World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s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of IS and many users have access to fac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outs are laid out for pickup without overs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queues are openly available to on-line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some platforms are back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ups are often stored on si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omputer ro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an off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estrictions are placed on access to back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s closets 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5C1-61E6-4EEC-8795-A9A1E8566B8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ure System Ope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a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veill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l-time/Non-real-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524-D02E-4AFD-89DC-21ABC15BB89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dia 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pes, disks, diskettes, cards, paper, opt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lume labels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uman/machine read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e created, creat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e to destroy/retention peri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ume/file name, ver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t tr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ion of responsibility - librari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up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CF3-4D7B-46E8-AF79-8DC37554527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nal Consid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system commands are avail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whom? With what authenticatio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are changes made and approv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system software? To applications? To acces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are responsibilities divid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available are printouts/print queu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accessible is operations facilit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ortionality - Cost vs Benef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F9B-7138-44B8-8D56-9DF98B76999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ful system 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ful syste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erzapping - system utility or application that bypasses all access controls and audit/logging functions to make updates to code or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control over hardware and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control over all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control over printers and output que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ful Input/Output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access to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 program load from cons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F12-2F28-47F0-A60D-3F8320BDC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 program load - IPL from ta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over job schedule and execu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over all storage me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pass label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label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etting date/time, pass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of access ports/l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neous transactions (frau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ering proper trans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ing improper trans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ial of service/Delays in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 use, Disclos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t trail/log corruption/mod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9DE-1377-4A46-BAD2-4E8C9B8D99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ected Resour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word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 program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dor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t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o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ress T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rietary pack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s HW/S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 sto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&amp; tape sto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E35-B566-4774-BD36-673FE0E1AE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ected Resources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ing equi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-alone comp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itive/Critical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logs/audit trai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on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up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itive 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o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B90-03B4-41B6-B9EE-38168E77F1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3:11:32Z</dcterms:created>
  <dc:creator>brothke@hotmail.com</dc:creator>
  <dc:description/>
  <dc:language>en-US</dc:language>
  <cp:lastModifiedBy>BRothke</cp:lastModifiedBy>
  <dcterms:modified xsi:type="dcterms:W3CDTF">2003-06-12T14:38:43Z</dcterms:modified>
  <cp:revision>61</cp:revision>
  <dc:subject/>
  <dc:title>No Slide Title</dc:title>
</cp:coreProperties>
</file>